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97E6-2A10-48BF-B9F2-62D5B701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6771-2ADE-444B-83EE-A4C12163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91CD-7A5F-4CC3-A597-3FE45AB6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832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80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548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832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80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360E-CCEC-4073-8E27-C8157FF7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6A59-C236-4470-9F21-2C6568FF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FF3B-9094-46F9-A44C-95F0D76A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CC5C-67D7-4667-B4B7-3443E9DE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5C24-F886-4422-9142-8E4E6F3F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6113-686B-4478-A6CF-4395B396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14240" y="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5C90-092C-4335-B494-D24BDADE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6439-1012-475B-A279-F3B12747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423C-C006-408D-B581-F7DD7828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78B7-7F82-4125-BF7E-99FF2781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3906-50EE-48A0-A7A4-339E5A93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E1CC-30DD-407D-90E6-CD947BE4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BA0B-7FAC-49BB-B0DE-6AC728D8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832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080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548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832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080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900B-B0A3-4B85-BB64-7C786556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9836-963D-4DFA-9AC6-5EDD7C2B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7152-AC8F-4C0E-84BA-8FECFB0C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0300-6A4E-45A3-B43C-0282849B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37B3-C9FF-44C9-8E5B-D5822518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3974-B261-4DB0-AB44-86EDDE23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6D0C-6DCF-4BD4-8D72-94C049AE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B2F8-7766-42F9-8CC0-00419CA2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67A0-7C0A-41A5-B106-053F6905A0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3FE0-ED01-434B-9244-C50A4446715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57720" y="1428480"/>
            <a:ext cx="562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85760" y="3071520"/>
            <a:ext cx="370044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тор данного шаблона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рмолаева Ирина Алексе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итель информатики и математ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У «Павловская сош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с.Павловс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лтайский кра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5480" y="1357200"/>
            <a:ext cx="86439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706320" y="-6480"/>
            <a:ext cx="8242560" cy="1013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571400" y="1357200"/>
            <a:ext cx="7358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im6-tub.yandex.net/i?id=313833065-30-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img1.liveinternet.ru/images/attach/c/2/73/317/73317663_1b8597b9ee0bt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rusforumz.com/library/template/fon/number/67-1.jp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5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828720" cy="927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"/>
          <p:cNvPicPr/>
          <p:nvPr/>
        </p:nvPicPr>
        <p:blipFill>
          <a:blip r:embed="rId3"/>
          <a:stretch/>
        </p:blipFill>
        <p:spPr>
          <a:xfrm>
            <a:off x="357120" y="242892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"/>
          <p:cNvPicPr/>
          <p:nvPr/>
        </p:nvPicPr>
        <p:blipFill>
          <a:blip r:embed="rId4"/>
          <a:stretch/>
        </p:blipFill>
        <p:spPr>
          <a:xfrm>
            <a:off x="357120" y="4429080"/>
            <a:ext cx="10238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03:48:09Z</dcterms:created>
  <dc:creator>Comp</dc:creator>
  <dc:description/>
  <dc:language>en-US</dc:language>
  <cp:lastModifiedBy>Comp</cp:lastModifiedBy>
  <dcterms:modified xsi:type="dcterms:W3CDTF">2011-07-28T03:54:40Z</dcterms:modified>
  <cp:revision>2</cp:revision>
  <dc:subject/>
  <dc:title>Слайд 1</dc:title>
</cp:coreProperties>
</file>